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3D7A-2CAE-48FC-A107-26CB1BE3F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94C2-A9CD-47CC-BAB1-19F14FA7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5363-26B3-4ADA-AC10-A8AAB156F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88C3-3CE0-48AD-9D08-E69E36B39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B8FA-0C83-4B7D-8724-89E9F47A7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5FC9-FCC2-4344-888B-04BD6B5F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F26F-2B5E-46E9-A080-3CF3CF8E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15A9-8910-4E3B-9F51-7550741B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1174-EFF6-4812-99B0-12D95B05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EBD4-A158-42F4-B823-CE72B689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C2AB-4789-4602-B039-76466529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1BD5-1489-410E-8DC9-5521C644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2587-0DDD-4E35-8BFC-13E568FB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B0B3-58C3-4B27-BA64-379C952A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D79E-5217-4AC9-8F49-A16D0669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46C1-2A19-43A6-83B9-9B2FA2BA3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6BF4-966B-40F8-987A-0F83E19B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1F60F-0FDC-4629-B19B-447D6E33C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A6BD5-6C31-4010-8CCA-71BC88AF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399A6-7847-42D4-BB93-146F43EE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98E95-BB94-4EED-9BCC-7CA9B805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53B40-6B31-4D6D-81B5-402A9539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CC52-F424-48A0-946D-F4BC8A1C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EE2ED-8FF6-4C66-9548-301FC3A7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76F0E-C383-4D9E-915B-ACA7F223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A2BB7-E93D-4687-89E3-02DECA41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484B8-99D6-484C-8D3F-657E89A5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EFEE7-BD1F-4E84-B87B-F7A6815E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D46DA-412D-4C15-B22D-BE7BD3EE5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A3A5D-E538-4634-9B3B-AC80138AF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63B27-2E17-4C81-8F1E-DE68CCDA6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8084E-2B67-4536-B25C-A43295CC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4262D-E858-4845-9E39-7CEC610E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EDF2-4586-45BC-927F-4B7C911D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A2EEB-1538-4891-BCA0-8EEC339E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6B3F8-7CFB-4522-A69B-E0BCB9AC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47DED-C011-43DB-AD09-FB0FF3BB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515D7-BB57-4C26-ACB4-0B5BEBAC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DA0F4-D16F-4902-A5CD-72197441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55363-F8CA-4446-84A2-4FB5B9E0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80845-703B-4AC3-A801-BBC7832A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634AE-D362-4959-BD13-5F430CEC7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391BC-F723-44FB-B33A-156583EB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6E4DB-BC51-49EB-A7AE-34CF486D5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5AFD-A74A-45B0-BA97-490E7062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0256A-00BD-4FEE-94FC-02BB543F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D74F3-1BE3-4247-9D13-635381BC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CA2E9-D82B-4037-A1E9-1346C596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C69A7-9434-4AD4-B432-86121C3F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F3EBB-3DFE-48D4-B2AF-9C1DB594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69ABA-92A3-40B2-834F-323F0294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4EE96-381E-4572-8948-AC4FC168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23E3C-1783-4535-82D6-64159D3E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910A3-F1AF-4D96-9604-C288122E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3069A-005F-4451-84DE-9F15F7CE0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FCF7-A67B-484C-B7B6-0E65D8B2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123DD-E0F0-4E5C-90A7-0BD0169C9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53DC5-E7C1-4DF7-8228-AB6320F3D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C9510-3A41-4E70-9016-E80DEF28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47A72-75FF-4124-90D9-59CD53AD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8CD4F-7689-499B-8B6A-155196A9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6ACA2-F3F1-4490-95A8-C3AFADEF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72B81-B220-48CE-A112-6439CFAF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FFBBC-7365-4CE5-BFD9-09811DC5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3CAD0-C825-46BB-A42E-24E43C4B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E1929-5A8B-4F0C-B902-4B3E4B1D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9ED8-51AC-475D-BF0F-1AC848EC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97EA4-A8BC-4742-A527-8B826100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4A567-F5D0-4A6A-AA7A-84202176D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99FF1-4EC3-496E-BCB6-FB574FCD9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0A6CA-6E1F-4C10-B75F-928D03362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9ABD0-414A-47BE-91ED-AD1E1480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42484-3906-4EB3-BF94-E9E06278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94F42-F02F-4E8F-AA09-178C79CB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290C5-0674-4514-914A-395CF8CE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A4290-0D31-435E-B4A8-9AB52131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420A3-34B7-497F-A774-94C33CFE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0B16-24A6-4F85-B4A5-2645EF79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AEF4A-9C40-4887-B56E-57E2C9B8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F907A-02B5-47A0-8D2C-124494B3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4C96D-E9C6-442D-A3F8-87058CB1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FE843-5BDA-420A-9C1E-3AF18D8F5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2C6A4-8187-4ACA-8BFB-E62B71444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4C34-521E-47C1-8D7D-EA48A7F6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6FA4-182D-4634-B7E0-DBE8BC43C3D9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4E0E-09D3-40B0-B810-B3BDA010F0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FE9E-037F-4DB3-B853-998E64AA99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F9D7-F11B-4255-B866-158B391C307D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3345-D062-4A9E-A365-83B48FDBC984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1276-CECF-489F-9C32-4A9E094B7CEC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D245-BA0E-4B88-BAC3-39FA7EE632F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208080" y="-298440"/>
            <a:ext cx="8259480" cy="25113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Picture 2" descr="http://www.shirtfactoryonline.com/images/NikeLogo.gif"/>
          <p:cNvPicPr/>
          <p:nvPr/>
        </p:nvPicPr>
        <p:blipFill>
          <a:blip r:embed="rId2"/>
          <a:stretch/>
        </p:blipFill>
        <p:spPr>
          <a:xfrm>
            <a:off x="609480" y="2133720"/>
            <a:ext cx="3552840" cy="24224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http://www.mysport.ie/images/adidas_Logo.JPG"/>
          <p:cNvPicPr/>
          <p:nvPr/>
        </p:nvPicPr>
        <p:blipFill>
          <a:blip r:embed="rId3"/>
          <a:stretch/>
        </p:blipFill>
        <p:spPr>
          <a:xfrm>
            <a:off x="5638680" y="3809880"/>
            <a:ext cx="315756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ICHAEL JORDA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RST JORDAN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AS REALESD IN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1977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2"/>
          <a:stretch/>
        </p:blipFill>
        <p:spPr>
          <a:xfrm>
            <a:off x="4114800" y="2971800"/>
            <a:ext cx="460224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UN DMC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HELL TOPS MADE I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1986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2"/>
          <a:stretch/>
        </p:blipFill>
        <p:spPr>
          <a:xfrm>
            <a:off x="5181480" y="2362320"/>
            <a:ext cx="35784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rbel"/>
              </a:rPr>
              <a:t>I LOVE NIKE SHOES !!</a:t>
            </a:r>
            <a:endParaRPr b="0" lang="en-US" sz="9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8:16:14Z</dcterms:created>
  <dc:creator>LTSD</dc:creator>
  <dc:description/>
  <dc:language>en-US</dc:language>
  <cp:lastModifiedBy>LTSD</cp:lastModifiedBy>
  <dcterms:modified xsi:type="dcterms:W3CDTF">2010-04-09T18:43:45Z</dcterms:modified>
  <cp:revision>3</cp:revision>
  <dc:subject/>
  <dc:title>NIKE VS. ADIDAS </dc:title>
</cp:coreProperties>
</file>